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2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CBF-E2FD-409B-849A-97F54872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89E-1905-4DFC-96EA-B87EBD99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6D2-B302-48FA-B093-9033FA65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2C8-6A8A-4545-A734-7AF0FD7E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8B8-A0E5-4978-863C-62979F7F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BA1-9251-42E3-AE5E-1D67A510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0A3-7828-4340-8854-C8282D47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19C-7D2D-469C-889D-787516DA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D02-FD3B-4EFB-A6F5-E3B84CFF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4A6-931E-47C4-AF50-B51447E9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3E7-8A58-4F3E-A71C-BFEA07C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18A-8E2D-4A9F-BBC0-73AF58C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2E51-7821-4800-B9A2-3EF7688F7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s.123rf.com/400wm/400/400/BVDC/BVDC0710/BVDC071000144/1990196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kuleuven-kortrijk.be/facult/wet/biologie/pb/kulakbiocampus/bomen-heesters/Betula%20pendula%20-%20Ruwe%20berk/Betula_pendula-ruwe_berk02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g1.liveinternet.ru/images/attach/c/3/76/758/76758085_malina_waciwa__Juhanson_gnu_CC_jpgsysfoto.pn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dic.academic.ru/pictures/enc_colier/ph02059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cl-zd.com/images/2011/02/1000list.jpg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www.lekar-trava.ru/pic/plantago_major.jpg" TargetMode="External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ив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вож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мур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оше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остное испуганное похваль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580000" y="2778120"/>
            <a:ext cx="310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9" descr="листья.jpg"/>
          <p:cNvPicPr/>
          <p:nvPr/>
        </p:nvPicPr>
        <p:blipFill>
          <a:blip r:embed="rId1"/>
          <a:stretch/>
        </p:blipFill>
        <p:spPr>
          <a:xfrm>
            <a:off x="2124000" y="476280"/>
            <a:ext cx="5148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--_1_~1.JPG"/>
          <p:cNvPicPr/>
          <p:nvPr/>
        </p:nvPicPr>
        <p:blipFill>
          <a:blip r:embed="rId1"/>
          <a:stretch/>
        </p:blipFill>
        <p:spPr>
          <a:xfrm>
            <a:off x="1692360" y="260280"/>
            <a:ext cx="5472000" cy="62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abpvb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20" descr="сбор растени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9280" y="0"/>
            <a:ext cx="44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1.СОБИРАТЬЛЕКАРСТВЕ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РАСТЕНИЯ ДОЛЖ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2.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3.        ПРИ  СБ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   НЕЛЬЗЯ СОБИР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851280" y="278136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КАЖДОЕ РАСТЕНИЕ НУЖНО КЛАСТЬ ОТДЕЛЬНО ОТ ДРУГОГО, ИСПОЛЬЗУЯ ПОЛОТНЯНЫЕ МЕШОЧКИ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500720" y="515772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КОЛО ШОССЕ, ДОРОГИ, ТРАССЫ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356000" y="184464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СОБИРАЮТ ТОГДА, КОГДА В НЁМ МНОГО АКТИВНЫХ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4572000" y="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ЗНАЮЩИЙ ЧЕЛОВЕК. ОН ДОЛЖЕН РАЗЛИЧАТЬ ЛЕКАРСТВЕННЫЕ РАСТЕНИЯ И ЗНАТЬ, ЧТО У ЭТОГО РАСТЕНИЯ НАДО ВЗЯТЬ: ЛИСТ, КОРЕНЬ ИЛИ СОЦВЕ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3995640" y="6129360"/>
            <a:ext cx="5148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НЕСЁННЫЕ В КРАСНУЮ КНИ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3564000" y="4005360"/>
            <a:ext cx="5256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НАДО ВЗЯТЬ СТОЛЬКО, СКОЛЬКО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440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497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ПОДОРОЖ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Image0005"/>
          <p:cNvPicPr/>
          <p:nvPr/>
        </p:nvPicPr>
        <p:blipFill>
          <a:blip r:embed="rId1"/>
          <a:stretch/>
        </p:blipFill>
        <p:spPr>
          <a:xfrm>
            <a:off x="324000" y="620640"/>
            <a:ext cx="3097080" cy="4194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6597360"/>
            <a:ext cx="874872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Image0033"/>
          <p:cNvPicPr/>
          <p:nvPr/>
        </p:nvPicPr>
        <p:blipFill>
          <a:blip r:embed="rId2"/>
          <a:stretch/>
        </p:blipFill>
        <p:spPr>
          <a:xfrm>
            <a:off x="3708360" y="2571840"/>
            <a:ext cx="2517840" cy="3024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 flipH="1">
            <a:off x="6803280" y="4219560"/>
            <a:ext cx="19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ОРЕ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СА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4284720" y="1397160"/>
            <a:ext cx="41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СТАНАВЛИ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7280" y="2743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ВАЛЕРИАН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Image0001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509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age0034"/>
          <p:cNvPicPr/>
          <p:nvPr/>
        </p:nvPicPr>
        <p:blipFill>
          <a:blip r:embed="rId2"/>
          <a:stretch/>
        </p:blipFill>
        <p:spPr>
          <a:xfrm>
            <a:off x="5867280" y="2565360"/>
            <a:ext cx="2394000" cy="3125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4362480" y="43657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806440" y="59500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25080" y="19162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МАТЬ-И-МАЧЕХ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Image0031"/>
          <p:cNvPicPr/>
          <p:nvPr/>
        </p:nvPicPr>
        <p:blipFill>
          <a:blip r:embed="rId1"/>
          <a:stretch/>
        </p:blipFill>
        <p:spPr>
          <a:xfrm>
            <a:off x="179280" y="260280"/>
            <a:ext cx="3894120" cy="483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age0036"/>
          <p:cNvPicPr/>
          <p:nvPr/>
        </p:nvPicPr>
        <p:blipFill>
          <a:blip r:embed="rId2"/>
          <a:stretch/>
        </p:blipFill>
        <p:spPr>
          <a:xfrm>
            <a:off x="5435640" y="2852640"/>
            <a:ext cx="1920960" cy="2665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794200" y="2133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Ж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4078800" y="3933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НГ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5938560" y="57326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РОНХ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7628760" y="393372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50"/>
                </a:solidFill>
                <a:latin typeface="Calibri"/>
              </a:rPr>
              <a:t>ЗВЕРОБ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Image0030"/>
          <p:cNvPicPr/>
          <p:nvPr/>
        </p:nvPicPr>
        <p:blipFill>
          <a:blip r:embed="rId1"/>
          <a:stretch/>
        </p:blipFill>
        <p:spPr>
          <a:xfrm>
            <a:off x="250920" y="189000"/>
            <a:ext cx="3286080" cy="3887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Image0035"/>
          <p:cNvPicPr/>
          <p:nvPr/>
        </p:nvPicPr>
        <p:blipFill>
          <a:blip r:embed="rId2"/>
          <a:stretch/>
        </p:blipFill>
        <p:spPr>
          <a:xfrm>
            <a:off x="4788000" y="3213000"/>
            <a:ext cx="2436840" cy="30099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857760" y="270828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7010280" y="2637000"/>
            <a:ext cx="212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Укре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дё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5222880" y="61657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7093080" y="450864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е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3139920" y="4869000"/>
            <a:ext cx="157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в жив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Аптека-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это учреждение, в котором продаются, изготавливаются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лекарственные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сре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птеа.jpg"/>
          <p:cNvPicPr/>
          <p:nvPr/>
        </p:nvPicPr>
        <p:blipFill>
          <a:blip r:embed="rId1"/>
          <a:stretch/>
        </p:blipFill>
        <p:spPr>
          <a:xfrm>
            <a:off x="250920" y="2565360"/>
            <a:ext cx="4105080" cy="402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im5-tub-ru.yandex.net/i?id=187209047-45-72&amp;n=21"/>
          <p:cNvPicPr/>
          <p:nvPr/>
        </p:nvPicPr>
        <p:blipFill>
          <a:blip r:embed="rId1"/>
          <a:stretch/>
        </p:blipFill>
        <p:spPr>
          <a:xfrm>
            <a:off x="2771640" y="549360"/>
            <a:ext cx="3167280" cy="3467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Для улучшения аппет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im6-tub-ru.yandex.net/i?id=129700635-19-72&amp;n=21"/>
          <p:cNvPicPr/>
          <p:nvPr/>
        </p:nvPicPr>
        <p:blipFill>
          <a:blip r:embed="rId1"/>
          <a:stretch/>
        </p:blipFill>
        <p:spPr>
          <a:xfrm>
            <a:off x="611280" y="68904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0-tub-ru.yandex.net/i?id=168788253-59-72&amp;n=21"/>
          <p:cNvPicPr/>
          <p:nvPr/>
        </p:nvPicPr>
        <p:blipFill>
          <a:blip r:embed="rId2"/>
          <a:stretch/>
        </p:blipFill>
        <p:spPr>
          <a:xfrm>
            <a:off x="5651640" y="692280"/>
            <a:ext cx="2881080" cy="288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Много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витаминов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и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просту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101080" y="544500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Я узнал(а)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было интересно……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Хочу ещё узнать…………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понравилось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28000" y="5229360"/>
            <a:ext cx="876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Картинка 62 из 1347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341360"/>
            <a:ext cx="346392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Содержимое 2"/>
          <p:cNvSpPr/>
          <p:nvPr/>
        </p:nvSpPr>
        <p:spPr>
          <a:xfrm>
            <a:off x="3995640" y="1341360"/>
            <a:ext cx="489600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травы – лекари -душ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веробой, и меду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емляника, и чер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брусника с голуб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истотел, полынь, кал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Лён, календула, крап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целебн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Знаем без ис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е ле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а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аходить в лесу рас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то пригодны для леч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324000" y="18900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ahoma"/>
                <a:ea typeface="Arial"/>
              </a:rPr>
              <a:t>ЛЕКАРСТВЕН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f64"/>
          <p:cNvPicPr/>
          <p:nvPr/>
        </p:nvPicPr>
        <p:blipFill>
          <a:blip r:embed="rId3"/>
          <a:stretch/>
        </p:blipFill>
        <p:spPr>
          <a:xfrm>
            <a:off x="2987640" y="5229360"/>
            <a:ext cx="1330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vse_o_lekarstvennyx_rastenijax_65706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2700360" y="333360"/>
            <a:ext cx="47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013200" cy="332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4824360" cy="338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1928880" cy="247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6"/>
          <a:stretch/>
        </p:blipFill>
        <p:spPr>
          <a:xfrm>
            <a:off x="5796000" y="4221000"/>
            <a:ext cx="1512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знал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13" descr="апт огородпетр.jpg"/>
          <p:cNvPicPr/>
          <p:nvPr/>
        </p:nvPicPr>
        <p:blipFill>
          <a:blip r:embed="rId1"/>
          <a:stretch/>
        </p:blipFill>
        <p:spPr>
          <a:xfrm>
            <a:off x="3564000" y="0"/>
            <a:ext cx="53830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0" descr="апт ог.jpg"/>
          <p:cNvPicPr/>
          <p:nvPr/>
        </p:nvPicPr>
        <p:blipFill>
          <a:blip r:embed="rId2"/>
          <a:srcRect l="32397" t="0" r="0" b="0"/>
          <a:stretch/>
        </p:blipFill>
        <p:spPr>
          <a:xfrm>
            <a:off x="179280" y="2708280"/>
            <a:ext cx="5113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аптекарские ого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апт огород.jpg"/>
          <p:cNvPicPr/>
          <p:nvPr/>
        </p:nvPicPr>
        <p:blipFill>
          <a:blip r:embed="rId1"/>
          <a:stretch/>
        </p:blipFill>
        <p:spPr>
          <a:xfrm>
            <a:off x="179280" y="335772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хор апт огор.jpg"/>
          <p:cNvPicPr/>
          <p:nvPr/>
        </p:nvPicPr>
        <p:blipFill>
          <a:blip r:embed="rId2"/>
          <a:stretch/>
        </p:blipFill>
        <p:spPr>
          <a:xfrm>
            <a:off x="4572000" y="54936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028000" y="5429160"/>
            <a:ext cx="905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71578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Лекарств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10" descr="ромашка.jpg"/>
          <p:cNvPicPr/>
          <p:nvPr/>
        </p:nvPicPr>
        <p:blipFill>
          <a:blip r:embed="rId1"/>
          <a:stretch/>
        </p:blipFill>
        <p:spPr>
          <a:xfrm>
            <a:off x="2484360" y="765000"/>
            <a:ext cx="2384640" cy="17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4 из 194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492280"/>
            <a:ext cx="2409840" cy="180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5 из 1225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620640"/>
            <a:ext cx="2808360" cy="227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Картинка 29 из 165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4630680"/>
            <a:ext cx="253368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артинка 14 из 1959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4446720"/>
            <a:ext cx="2916360" cy="241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Картинка 5 из 2219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189000"/>
            <a:ext cx="1621080" cy="21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original"/>
          <p:cNvPicPr/>
          <p:nvPr/>
        </p:nvPicPr>
        <p:blipFill>
          <a:blip r:embed="rId12"/>
          <a:stretch/>
        </p:blipFill>
        <p:spPr>
          <a:xfrm>
            <a:off x="2195640" y="328464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zelenplaneta.ru/uploads/posts/2010-02/1267214630_1264959249_nettle_4.jpg"/>
          <p:cNvPicPr/>
          <p:nvPr/>
        </p:nvPicPr>
        <p:blipFill>
          <a:blip r:embed="rId13"/>
          <a:stretch/>
        </p:blipFill>
        <p:spPr>
          <a:xfrm>
            <a:off x="4284720" y="1989000"/>
            <a:ext cx="2413080" cy="168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Безымянный77899"/>
          <p:cNvPicPr/>
          <p:nvPr/>
        </p:nvPicPr>
        <p:blipFill>
          <a:blip r:embed="rId14"/>
          <a:stretch/>
        </p:blipFill>
        <p:spPr>
          <a:xfrm>
            <a:off x="6804000" y="3141720"/>
            <a:ext cx="1901880" cy="225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84042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5" descr="пол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13T19:30:05Z</dcterms:modified>
  <cp:revision>34</cp:revision>
  <dc:subject/>
  <dc:title>Слайд 1</dc:title>
</cp:coreProperties>
</file>